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move the slide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9731B6-ECCF-44B5-A40F-0EF87CCB6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6F486E-535F-46F6-ACD2-32891ACA59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BA0B0C-EEA7-4D1F-BA9F-899B9627329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698634-19C5-43B4-9FD4-47D3E6B4A15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AD7199-3C34-46AC-B8B9-233F8ADAA62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C849CB-D87A-426C-9368-C9493903389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723-BF81-487D-9C60-D048BBEA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BE3-1FC3-4C70-A9C5-C6018AC4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7DF-E609-4582-9D15-D96849EB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0B0-A192-4551-BB24-4EACEDFBC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23B1-5E47-4CDD-9A6D-649ECAAB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1FCD-7CDC-4182-A504-DBFEB420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43EE-56E3-48F7-AEE2-57AB4E1C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6E57-58E6-43E2-A128-5F5F6B2D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C4A4-CA0D-4461-ADC0-8720C231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3DFF-F588-428A-830E-28EC780F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6AA9-E7A2-497E-8B29-36BC70A6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952C-60D6-4DAC-A4B8-869D5198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F24F-B4ED-4597-8DCF-0FD755B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9E33-C9D3-46D4-A638-2471386F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3A74-805A-47F4-A178-6C373AE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6C3D-ED05-445C-BB0D-F62ED578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8492-37CD-45A8-89FA-BF2F2383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D939C-FC36-4CFF-8556-93CB150F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A1185-E57D-4DD3-8871-E3E1AB94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3D98-4094-4EDC-8E99-3E5037F0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C5E6-723F-493D-86BA-18C419BF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A2330-EDF9-4DF2-9692-3C1F0B7A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FC1-7BE6-44A1-B17A-12C9EB25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E8E0-2B86-4346-A04B-B220C1F2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586D4-FC1D-4DCC-BAEC-FB766F11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B3AE5-3E78-433E-A379-ABBB92A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DACD7-CF97-435B-B921-88669AD5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4810-1CBD-48F0-8546-718999E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4B8C2-E40F-4882-9D8F-BF4CEB33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7287-15A7-48BE-9CD4-B2DC4820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18B-F7F5-488B-BC2D-CBAB0179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8FA-923F-4701-8B06-2D64175F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1920" y="192564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24A-F2A6-42D1-B3D5-C918E6B1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01A-15F2-400E-BBC0-27E86BA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A2F-2498-400E-BC5A-6F659228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8E7-2BA0-41E6-B5DE-25832569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5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tl"/>
            </a:blip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6" name="Picture 4" descr="minispir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1920" y="192564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400560" y="61009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829560" y="61009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C9D7DC54-DC13-48A9-8B5D-584EB0365D1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49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5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1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1141DD0B-0399-4BFE-89BF-49D1CB969BB5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1c1c1c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200" cy="6857640"/>
            <a:chOff x="0" y="0"/>
            <a:chExt cx="8872200" cy="685764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8680" cy="6391080"/>
            </a:xfrm>
            <a:prstGeom prst="rect">
              <a:avLst/>
            </a:pr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44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6840" cy="360"/>
            </a:xfrm>
            <a:prstGeom prst="line">
              <a:avLst/>
            </a:prstGeom>
            <a:ln w="3175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0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Master title style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641"/>
              </a:spcBef>
              <a:buClr>
                <a:srgbClr val="ff5050"/>
              </a:buClr>
              <a:buSzPct val="90000"/>
              <a:buFont typeface="Monotype Sorts" charset="2"/>
              <a:buChar char=""/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61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2" marL="1143000" indent="-228600" algn="r" rtl="1">
              <a:lnSpc>
                <a:spcPct val="100000"/>
              </a:lnSpc>
              <a:spcBef>
                <a:spcPts val="479"/>
              </a:spcBef>
              <a:buClr>
                <a:srgbClr val="ff505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Third level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00"/>
              </a:spcBef>
              <a:buClr>
                <a:srgbClr val="ff505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1c1c1c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9072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429000" y="60958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spcBef>
                <a:spcPts val="700"/>
              </a:spcBef>
              <a:buNone/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00"/>
              </a:spcBef>
              <a:buNone/>
            </a:pPr>
            <a:fld id="{D88672D7-3FC2-468C-AD1E-F0597D6BAB53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mailto:0ns20@yahoo.com" TargetMode="External"/><Relationship Id="rId2" Type="http://schemas.openxmlformats.org/officeDocument/2006/relationships/hyperlink" Target="mailto:Mdamavandi@Srttu.Edu.ir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il_fi" descr="http://ketabak.org/tarvij/sites/default/files/imagecache/nc_image/tarvij/article/201112/making-list-0808-lg-504185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itle 1"/>
          <p:cNvSpPr/>
          <p:nvPr/>
        </p:nvSpPr>
        <p:spPr>
          <a:xfrm rot="20127600">
            <a:off x="1520640" y="2415960"/>
            <a:ext cx="228564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  <a:cs typeface="B Mitra"/>
              </a:rPr>
              <a:t>به نام خدا</a:t>
            </a: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 rot="19945200">
            <a:off x="2325600" y="2568600"/>
            <a:ext cx="4971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    کارگاه روش شناسی تحقی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دانشگاه فرهنگیا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همایش پوی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93/11/11</a:t>
            </a: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le 1"/>
          <p:cNvSpPr/>
          <p:nvPr/>
        </p:nvSpPr>
        <p:spPr>
          <a:xfrm>
            <a:off x="5000760" y="62064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ویژ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1115640" y="138060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ل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ب انجام پژوهشهای بسیار و پیشبردعلم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وجز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پدیده ها باروشی ساده و مستقیم تبیین میشوند. نظریه های ساده تر اولویت دار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جامع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در دوره های زمانی مختلف ، مناطق جغرافیایی متفاوت ، بافت های اجتماع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و فرهنگی گوناگون توان تبیین دار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واضح وصریح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مفاهیم آن می تواند به صورت عملی تعریف شود ، قابل اندازه گیری است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اریف ناقص و مبهم در آن نی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هماهنگ (درونی و بیرون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 سازکاری با دانش پیشین و واقعیت های مشاهده شده (بیرونی)و عدم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تناقض بین </a:t>
            </a: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1c1c1c"/>
                </a:solidFill>
                <a:latin typeface="Times New Roman"/>
                <a:cs typeface="B Mitra"/>
              </a:rPr>
              <a:t>بخش های مختلف آن ( هماهنگی درون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le 1"/>
          <p:cNvSpPr/>
          <p:nvPr/>
        </p:nvSpPr>
        <p:spPr>
          <a:xfrm>
            <a:off x="2123640" y="78588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 </a:t>
            </a:r>
            <a:r>
              <a:rPr b="1" lang="fa-IR" sz="2400" spc="-1" strike="noStrike">
                <a:solidFill>
                  <a:srgbClr val="c00000"/>
                </a:solidFill>
                <a:latin typeface="Times New Roman"/>
                <a:cs typeface="B Mitra"/>
              </a:rPr>
              <a:t>کارکرد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1071360" y="1428840"/>
            <a:ext cx="750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انایی توصیف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عیین عوامل و متغیر ها درونی پدیده یا رویداد و نوع و نحوه ارتباط آ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قدرت تبیین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توضیح نحوه و سازوکار(مکانیسم) عملکرد و تعامل و تاثیر و تاثر پدیده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مکان پیش بینی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ایجاد امکان پیش بینی رخدادها و عملکرد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1071360" y="1714320"/>
            <a:ext cx="7500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د نظریه ( تئوری ) شناخته شده را نام ببرید و فراز های مهم آن را توضیح دهی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5220000" y="2568240"/>
            <a:ext cx="24235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نیوتو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فیزیک)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1"/>
          <p:cNvSpPr/>
          <p:nvPr/>
        </p:nvSpPr>
        <p:spPr>
          <a:xfrm>
            <a:off x="2051640" y="4005000"/>
            <a:ext cx="287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رفتارگرایی</a:t>
            </a:r>
            <a:r>
              <a:rPr b="1" lang="en-US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tle 1"/>
          <p:cNvSpPr/>
          <p:nvPr/>
        </p:nvSpPr>
        <p:spPr>
          <a:xfrm>
            <a:off x="3060000" y="3501000"/>
            <a:ext cx="2654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فروید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 (روان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itle 1"/>
          <p:cNvSpPr/>
          <p:nvPr/>
        </p:nvSpPr>
        <p:spPr>
          <a:xfrm>
            <a:off x="4298760" y="2997000"/>
            <a:ext cx="2433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نظریه داروین </a:t>
            </a:r>
            <a:r>
              <a:rPr b="1" lang="en-US" sz="14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(زیست شناسی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224000" y="4437000"/>
            <a:ext cx="7500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آیا شما هم نظریه ای شخصی دارید؟ </a:t>
            </a:r>
            <a:r>
              <a:rPr b="1" lang="en-US" sz="18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(نظریه شما چه چیز را توصیف و پیش بینی میکند؟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170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فرضیه و نحوه تدوین آن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5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س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1071360" y="187452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دس ، پیشنهاد یا پیش بینی ( خردمندانه ای ) در باره چگونگی رابطه چند متغیر یا پاسخ یا راه حل معقولانه ای برای مساله پژوهش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(ادعایی مبنی بر وجود رابطه ، تاثیر یا تفاوت دو یا چند متغی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333333"/>
                </a:solidFill>
                <a:latin typeface="Times New Roman"/>
                <a:cs typeface="B Mitra"/>
              </a:rPr>
              <a:t>طرح فرضیه راهکاری است برای هدایت روند پژوهش ( فرضیه ابزار تئوری است ) و چارچوبی را برای تنظیم و ارایه گزارش تحقیق فراهم می آو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56844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c00000"/>
                </a:solidFill>
                <a:latin typeface="Times New Roman"/>
                <a:cs typeface="B Mitra"/>
              </a:rPr>
              <a:t>فرضیه ابطال یا اثبات نمی شوند بلکه تنها در حوزه محدودی به طور موقت         تایید یا رد می گردد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tle 1"/>
          <p:cNvSpPr/>
          <p:nvPr/>
        </p:nvSpPr>
        <p:spPr>
          <a:xfrm>
            <a:off x="2857320" y="785880"/>
            <a:ext cx="5285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و سوال پژوهش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tle 1"/>
          <p:cNvSpPr/>
          <p:nvPr/>
        </p:nvSpPr>
        <p:spPr>
          <a:xfrm>
            <a:off x="1071360" y="1857240"/>
            <a:ext cx="75006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مبنایی منطقی دارد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لازم است که فرضیه با ارایه مبانی نظری یا داده ها و شواهد تجربی تبیین شود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برای طرح آن دلایل روشن و قابل ارایه ای وجود دارد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نظری ؛ از متن نظریه های مربوط به موضوع برآمده و با آنها سازگار اس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بنای تجربی ؛ از بطن مشاهده های عینی یا پزوهش های پیشین برآم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  <a:cs typeface="B Mitra"/>
              </a:rPr>
              <a:t>چنانچه مبانی منطقی لازم برای طرح فرضیه جود نداشته باشد به طرح                 سوال پژوهشی بسنده می شود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itle 1"/>
          <p:cNvSpPr/>
          <p:nvPr/>
        </p:nvSpPr>
        <p:spPr>
          <a:xfrm>
            <a:off x="3857760" y="714240"/>
            <a:ext cx="45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: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</a:t>
            </a:r>
            <a:r>
              <a:rPr b="1" lang="en-US" sz="4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itle 1"/>
          <p:cNvSpPr/>
          <p:nvPr/>
        </p:nvSpPr>
        <p:spPr>
          <a:xfrm>
            <a:off x="1071360" y="2071800"/>
            <a:ext cx="75006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فرضیه همواره به صورت جمله خبری بیان می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( اندازه گیری ، مشاهده ) متغیر ها و روابط آنها ممکن باشد 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، تاثیر یا تفاوت متغیر ( دو یا چند متغیر ) با هم یا برهم اشار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صورت عبارتی رسا و روشن که نیاز به تفسیر و ترجمه ندارد ،  نگاشته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دقیق ،روشن و تا حد امکان  ساده( بدون آرایه های نگارشی) ومختصر نوشته شو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ctr" rtl="1">
              <a:lnSpc>
                <a:spcPct val="2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d4d73"/>
                </a:solidFill>
                <a:latin typeface="Times New Roman"/>
              </a:rPr>
              <a:t>(امور بدیهی و مسایلی که محل منازعه و بحث نیستند را به عنوان فرضیه ارایه نکنیم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le 1"/>
          <p:cNvSpPr/>
          <p:nvPr/>
        </p:nvSpPr>
        <p:spPr>
          <a:xfrm>
            <a:off x="5357880" y="78588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899640" y="1556640"/>
            <a:ext cx="760104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کنید کدامیک از عبارت های زیر فرضیه مناسبی است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تغییر برنامه کاروزی دانشجو معلمان اقدام مناسبی اس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هارت ورفتار های اجتماعی دختران و پسران متفاوت اس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ومی بودن یا غیر بومی بودن معلمان با عملکرد حرفه ای آنان ارتباطی ندا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ره وری آموزشی با پیچیدگی عوامل وتاثیر و تاثرات آ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فزایش برنامه های تفریحی سبب بهبود یاد گیری می گرد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57200" algn="r" rtl="1">
              <a:lnSpc>
                <a:spcPct val="150000"/>
              </a:lnSpc>
              <a:buClr>
                <a:srgbClr val="00004d"/>
              </a:buClr>
              <a:buFont typeface="Times New Roman"/>
              <a:buAutoNum type="arabicPeriod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داد و حجم درس های تربیتی با میزان کارایی معلمان رابطه دار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 algn="r" rtl="1">
              <a:lnSpc>
                <a:spcPct val="150000"/>
              </a:lnSpc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شما چندفرضیه ارایه کن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algn="ctr" rtl="1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just" rtl="1">
              <a:lnSpc>
                <a:spcPct val="15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47640" y="2709000"/>
            <a:ext cx="6643440" cy="201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6054840"/>
              </a:tabLst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طالعه پیشینه موضوع و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یادداشت برداری 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1547640" y="1340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cs typeface="B Mitra"/>
              </a:rPr>
              <a:t>بخش چهار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1857240" y="785880"/>
            <a:ext cx="6286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ضرور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تحدید موض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جتناب از دوباره کاری و معطوف شدن به مسایل ن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رتقا روش شناختی ، بهره گیری از روش های کار آمدت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یابی به بینشی در باره موضوع و حدود آن و ارزیابی فرضیه و سوال های پژوه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640" y="2800800"/>
            <a:ext cx="6643440" cy="1347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ساله و موضوع 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tle 1"/>
          <p:cNvSpPr/>
          <p:nvPr/>
        </p:nvSpPr>
        <p:spPr>
          <a:xfrm>
            <a:off x="2786040" y="785880"/>
            <a:ext cx="5357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دبیات و پیشینه تحقیق: </a:t>
            </a: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هدف</a:t>
            </a:r>
            <a:r>
              <a:rPr b="1" lang="en-US" sz="36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itle 1"/>
          <p:cNvSpPr/>
          <p:nvPr/>
        </p:nvSpPr>
        <p:spPr>
          <a:xfrm>
            <a:off x="928800" y="1785960"/>
            <a:ext cx="735768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مبانی نظر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عرفی و توضیح نظریه ها ، رویکردها ، دیدگاهها معتبر در حوزه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و بازنمایی مفاه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پرداخت مفاهیم و واژگان کلیدی و کلیه نکات مربوط به آن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رور تحقیقات انجام شد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وضیح و وارسی نتایج به دست از بررسی موضوع در پژوهش های انجام شد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ازبینی روش ها ، جامعه آماری ، نمونه و دیگر فراز های روش شناخت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itle 1"/>
          <p:cNvSpPr/>
          <p:nvPr/>
        </p:nvSpPr>
        <p:spPr>
          <a:xfrm>
            <a:off x="1500120" y="178596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آیا باید یادداشت کنیم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 یادداشت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ر یادداشت کردن نظم معینی را دنبال می کن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تا چه اندازه منظم و مرتب ا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اشت های شما قابل ارایه به دیگران هست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های شما به کارتان آمده یا میاید 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یادداشت کردن به یادگیری ( یادسپاری و یاد آوری ) شما کمک می کند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چند پرس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itle 1"/>
          <p:cNvSpPr/>
          <p:nvPr/>
        </p:nvSpPr>
        <p:spPr>
          <a:xfrm>
            <a:off x="2428920" y="785880"/>
            <a:ext cx="3857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0" lang="fa-IR" sz="3600" spc="-1" strike="noStrike">
                <a:solidFill>
                  <a:srgbClr val="00004d"/>
                </a:solidFill>
                <a:latin typeface="Times New Roman"/>
                <a:cs typeface="B Mitra"/>
              </a:rPr>
              <a:t>چرا باید یادداشت کنیم 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1"/>
          <p:cNvSpPr/>
          <p:nvPr/>
        </p:nvSpPr>
        <p:spPr>
          <a:xfrm>
            <a:off x="5786280" y="714240"/>
            <a:ext cx="2785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ان مسال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928880" y="2214720"/>
            <a:ext cx="564336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بسیاری را از دست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ما سازمان و طبقه بندی مناسبی نمی یاب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آموخته ها ، اطلاعات و داده ها دشوار اس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ون مرجع ، منبع ، تاریخ اطلاعات بی هویت ان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طلاعات اتفاقی کسب میشوند و تصادفی در ذهن می ما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گه یادداشت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itle 1"/>
          <p:cNvSpPr/>
          <p:nvPr/>
        </p:nvSpPr>
        <p:spPr>
          <a:xfrm>
            <a:off x="1643040" y="2214720"/>
            <a:ext cx="63576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فیش یا برگه های یادداشت ، برگه هایی اند با شکل و اندازه واحد برای ثبت اطلاعات دریافتی ، چکیده مطالعات و .... با نظم و اصول تعریف شد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ی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itle 1"/>
          <p:cNvSpPr/>
          <p:nvPr/>
        </p:nvSpPr>
        <p:spPr>
          <a:xfrm>
            <a:off x="1643040" y="2214720"/>
            <a:ext cx="63576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کیفیت و جنس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ا قابلیت نگهداری و یا انتقال و جابجایی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اندازه و ابعاد 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بسته به موضوع و کاربرده های آن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نام نویسنده ، سال انتشار ، ، مترجم ، ناشر 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تاریخ یادداشت برداری ، نام یادداشت کننده 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      </a:t>
            </a:r>
            <a:r>
              <a:rPr b="1" lang="fa-IR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شخصات فیش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1000080" y="2000160"/>
            <a:ext cx="735768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یژگی ها منبع ؛  نام نویسنده ، سال انتشار ، ، مترجم ، ناشر 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اصلی ، موضوع فرع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اریخ یادداشت برداری ، نام یادداشت کننده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ع و نحوه یادداشت برداری </a:t>
            </a:r>
            <a:r>
              <a:rPr b="1" lang="en-US" sz="1600" spc="-1" strike="noStrike">
                <a:solidFill>
                  <a:srgbClr val="00004d"/>
                </a:solidFill>
                <a:latin typeface="Times New Roman"/>
              </a:rPr>
              <a:t>( در صورت لزوم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  <a:cs typeface="B Mitra"/>
              </a:rPr>
              <a:t>شناسه برگه یادداش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tle 1"/>
          <p:cNvSpPr/>
          <p:nvPr/>
        </p:nvSpPr>
        <p:spPr>
          <a:xfrm>
            <a:off x="5072040" y="714240"/>
            <a:ext cx="3500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برگه یادداش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1643040" y="2214720"/>
            <a:ext cx="63576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عدد یا ترکیبی از عدد و حروف برای تعیی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شماره ردی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یا نوع مطل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2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و 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tle 1"/>
          <p:cNvSpPr/>
          <p:nvPr/>
        </p:nvSpPr>
        <p:spPr>
          <a:xfrm>
            <a:off x="350028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حوه یادداشت بردار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1643040" y="2214720"/>
            <a:ext cx="63576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نقل قول مستقیم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علمی ، داده ها و .....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لخیص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 مطالب مفصل و طولانی ، داستان ها ، مطالب فلسفی و 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ضمون نویسی 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(مطالب پیچیده ، مفصل یا غیر قابل نقل و 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حاشیه نویسی (مطالب شخصی ، نظرات شخصی و ..........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00000"/>
              </a:lnSpc>
            </a:pP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4572000" y="714240"/>
            <a:ext cx="4000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یه های شخص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itle 1"/>
          <p:cNvSpPr/>
          <p:nvPr/>
        </p:nvSpPr>
        <p:spPr>
          <a:xfrm>
            <a:off x="1643040" y="2214720"/>
            <a:ext cx="6357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رنگ ثابت برای منظور خا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ستفاده از ابعاد مختلف برای موضو ع ها مختل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وشتن یک سوال برای هر یک فیش ( که مطلب فیش پاسخ آن باشد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شناسه نویسی و کد گذاری هر برگه بر اساس طبقه بندی شخص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000" algn="r" rtl="1">
              <a:lnSpc>
                <a:spcPct val="15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...........</a:t>
            </a:r>
            <a:r>
              <a:rPr b="1" lang="en-US" sz="20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itle 1"/>
          <p:cNvSpPr/>
          <p:nvPr/>
        </p:nvSpPr>
        <p:spPr>
          <a:xfrm>
            <a:off x="3000240" y="714240"/>
            <a:ext cx="507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3200" spc="-1" strike="noStrike">
                <a:solidFill>
                  <a:srgbClr val="00004d"/>
                </a:solidFill>
                <a:latin typeface="Times New Roman"/>
                <a:cs typeface="B Mitra"/>
              </a:rPr>
              <a:t>نمایه سازی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3214800" y="2214720"/>
            <a:ext cx="4428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طبقه بندی مطالب و فیش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ریف شناسه برای هر طبق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4d"/>
                </a:solidFill>
                <a:latin typeface="Times New Roman"/>
                <a:cs typeface="B Mitra"/>
              </a:rPr>
              <a:t>تهیه فهرست برگه 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tle 1"/>
          <p:cNvSpPr/>
          <p:nvPr/>
        </p:nvSpPr>
        <p:spPr>
          <a:xfrm>
            <a:off x="3643200" y="500040"/>
            <a:ext cx="51433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ساله تحقیق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en-US" sz="900" spc="-1" strike="noStrike">
                <a:solidFill>
                  <a:srgbClr val="00004d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قق فردی است که دچار مساله شده است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214280" y="1928880"/>
            <a:ext cx="72864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هر پژوهشی با مساله آغاز می شود ، احساس وجود یک مشکل یا درک یک مساله نخستین مرحله اقدامی پژوهشی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، ماهیت و کیفیت مساله تعیین کننده اهمیت و کیفیت مساله اس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بیش از هر چیز باید به شناخت و تبیین مساله ، ابعاد آن ، بیان روشن و واضح و تبیین ضرورت آهمیت آن پرداخت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tle 1"/>
          <p:cNvSpPr/>
          <p:nvPr/>
        </p:nvSpPr>
        <p:spPr>
          <a:xfrm>
            <a:off x="2325960" y="1772640"/>
            <a:ext cx="49716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جید  ابراهیم دماوند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-1" strike="noStrike">
                <a:solidFill>
                  <a:srgbClr val="000033"/>
                </a:solidFill>
                <a:latin typeface="Times New Roman"/>
                <a:cs typeface="B Koodak"/>
              </a:rPr>
              <a:t>مدرس دانشگاه تربیت دبیر شهید رجایی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1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_PDMS_Saleem_QuranFont"/>
              </a:rPr>
              <a:t>	</a:t>
            </a:r>
            <a:r>
              <a:rPr b="1" lang="en-US" sz="2800" spc="-1" strike="noStrike" u="sng">
                <a:solidFill>
                  <a:srgbClr val="1a3366"/>
                </a:solidFill>
                <a:uFillTx/>
                <a:latin typeface="Times New Roman"/>
                <a:hlinkClick r:id="rId1"/>
              </a:rPr>
              <a:t>0ns20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chemeClr val="accent6">
                    <a:lumMod val="50000"/>
                  </a:schemeClr>
                </a:solidFill>
                <a:uFillTx/>
                <a:latin typeface="Times New Roman"/>
                <a:hlinkClick r:id="rId2"/>
              </a:rPr>
              <a:t>Mdamavandi@Srttu.Edu.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tle 1"/>
          <p:cNvSpPr/>
          <p:nvPr/>
        </p:nvSpPr>
        <p:spPr>
          <a:xfrm>
            <a:off x="4071960" y="785880"/>
            <a:ext cx="450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نشا مساله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1143000" y="1714320"/>
            <a:ext cx="72864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عینی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جربه های واقعی از زندگی در محیط ،  مواجهها با پدیده ها ، رخداد ها ، روندها پیوسته ما را با مسایلی روبرو می کنند که ابهام زا بوده و نیاز به پاسخ دارن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یط ذهن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مطالعه منابع ، آثار و پژوهش های دیگران الهام بخش بوده و منشا شکل گیری مساله است . به صورت تمایل به تکرار یک پژوهش در جامعه ای دیگر و ...... بروز ک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ها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تطابق نظریه ها با واقعیت ، نقصان های درونی نظریه ها ، تعارض آنها با نظریه های دیگر موجد مساله ا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تفکر و تخیل خلا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یده پردازی ، تمایل به پیشرفت ، عبور از مرزهای موجود ، کشف حوزه های نو ، خلق چیزهای تازه می تواند منشا بروز مساله های جدید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عی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857160" y="1714320"/>
            <a:ext cx="7714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بیانی است کوتاه،رسا و کاملی  از مساله تحقیق به نحوی که امکان بررسی و پژوهیدن آنرا عملی جلوه می دهد .  ضوابطی برای یک موضوع خوب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رد علاقه باشد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غدغه و مشغولیت ذهنی پژوهشگر باش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دیع و نو باشد .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کراری نباشد ، چیزی به ما ( به دانش یا توانایی ما ) بیافز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عملی و ممکن باشد .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دسترسی به منابع اطلاعاتی ، مالی و امکاناتی آن میسر باش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اهمیت و ضرورت داشته باشد. 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تواند به نیازی واقعی پاسخ گوید یا به دانشی نو بیانجام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le 1"/>
          <p:cNvSpPr/>
          <p:nvPr/>
        </p:nvSpPr>
        <p:spPr>
          <a:xfrm>
            <a:off x="2571840" y="785880"/>
            <a:ext cx="600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موضوع تحقیق :  </a:t>
            </a:r>
            <a:r>
              <a:rPr b="1" lang="fa-IR" sz="2000" spc="-1" strike="noStrike">
                <a:solidFill>
                  <a:srgbClr val="00004d"/>
                </a:solidFill>
                <a:latin typeface="Times New Roman"/>
                <a:cs typeface="B Mitra"/>
              </a:rPr>
              <a:t>ضابطه های تدوین موضو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857160" y="1714320"/>
            <a:ext cx="778644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53880" indent="-353880"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وضوح و روشنی :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روشن و بدون ابهام بوده و نیاز به توضیح ن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رابطه چند متغیر</a:t>
            </a: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	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به رابطه دو یا چند </a:t>
            </a:r>
            <a:r>
              <a:rPr b="1" lang="fa-IR" sz="1800" spc="-1" strike="noStrike">
                <a:solidFill>
                  <a:srgbClr val="ff0000"/>
                </a:solidFill>
                <a:latin typeface="Times New Roman"/>
                <a:cs typeface="B Mitra"/>
              </a:rPr>
              <a:t>متغیر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اشاره داشته باشد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200000"/>
              </a:lnSpc>
              <a:buClr>
                <a:srgbClr val="00004d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محدودیت             </a:t>
            </a:r>
            <a:r>
              <a:rPr b="1" lang="fa-IR" sz="1600" spc="-1" strike="noStrike">
                <a:solidFill>
                  <a:srgbClr val="00004d"/>
                </a:solidFill>
                <a:latin typeface="Times New Roman"/>
                <a:cs typeface="B Mitra"/>
              </a:rPr>
              <a:t>دامنه محدودی داشته باشد ، به محدوده ، زمان و مسایل مشخصی معطوف باش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le 1"/>
          <p:cNvSpPr/>
          <p:nvPr/>
        </p:nvSpPr>
        <p:spPr>
          <a:xfrm>
            <a:off x="1571760" y="785880"/>
            <a:ext cx="692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تمرین :  </a:t>
            </a:r>
            <a:r>
              <a:rPr b="1" lang="fa-IR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  <a:cs typeface="B Mitra"/>
              </a:rPr>
              <a:t>موضوع های مناسب و نا مناسب را تعیین کنی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1571760" y="1785960"/>
            <a:ext cx="707184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وامل موفقیت دانشجویان و نخبگان علمی و تحصیل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تعیین روند تغییرات در برنامه های آموزش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علل بی انگیزه گی دانشجوی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رابطه ویژگی های مدیران و رضایت شغلی کارکنا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آموزش های ضمن خدمت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fa-IR" sz="1800" spc="-1" strike="noStrike">
                <a:solidFill>
                  <a:srgbClr val="00004d"/>
                </a:solidFill>
                <a:latin typeface="Times New Roman"/>
                <a:cs typeface="B Mitra"/>
              </a:rPr>
              <a:t>بررسی تاثیر ارزشیابی توصیفی بر عملکرد  شاگردان کلاس س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4240" algn="r" rtl="1">
              <a:lnSpc>
                <a:spcPct val="200000"/>
              </a:lnSpc>
            </a:pPr>
            <a:r>
              <a:rPr b="1" lang="en-US" sz="1800" spc="-1" strike="noStrike">
                <a:solidFill>
                  <a:srgbClr val="00004d"/>
                </a:solidFill>
                <a:latin typeface="Times New Roman"/>
              </a:rPr>
              <a:t>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r" rtl="1">
              <a:lnSpc>
                <a:spcPct val="15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4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47640" y="2421000"/>
            <a:ext cx="6643440" cy="24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 rtl="1">
              <a:lnSpc>
                <a:spcPct val="100000"/>
              </a:lnSpc>
              <a:buNone/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مروری بر نقش نظریه و فرضیه </a:t>
            </a:r>
            <a:br>
              <a:rPr sz="4400"/>
            </a:b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در پژوهش علمی</a:t>
            </a:r>
            <a:endParaRPr b="0" lang="en-US" sz="4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547640" y="1412640"/>
            <a:ext cx="6643440" cy="136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66"/>
                </a:solidFill>
                <a:latin typeface="Times New Roman"/>
                <a:cs typeface="B Mitra"/>
              </a:rPr>
              <a:t>بخش دو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tle 1"/>
          <p:cNvSpPr/>
          <p:nvPr/>
        </p:nvSpPr>
        <p:spPr>
          <a:xfrm>
            <a:off x="5000760" y="785880"/>
            <a:ext cx="3142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fa-IR" sz="4400" spc="-1" strike="noStrike">
                <a:solidFill>
                  <a:srgbClr val="00004d"/>
                </a:solidFill>
                <a:latin typeface="Times New Roman"/>
                <a:cs typeface="B Mitra"/>
              </a:rPr>
              <a:t>نظری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tle 1"/>
          <p:cNvSpPr/>
          <p:nvPr/>
        </p:nvSpPr>
        <p:spPr>
          <a:xfrm>
            <a:off x="1785960" y="1857240"/>
            <a:ext cx="6571800" cy="44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‌ای از سازه‌ها ( مفاهیم ) تعاریف و گزاره‌های به هم مرتبط است که از طریق مشخص ساختن روابط بین متغیرها، با هدف تبیین و پیش بینی پدیده‌ها دید نظام یافته‌ای از پدیده‌ها ارائه می‌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مجموعه ای از تعریف ها و توضیحات در باره روابط تعدادی از متغیرها ، برای توصیف و توضیح وتبیین منظم پدیده ها و رویداد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r>
              <a:rPr b="1" lang="fa-IR" sz="2000" spc="-1" strike="noStrike">
                <a:solidFill>
                  <a:srgbClr val="1c1c1c"/>
                </a:solidFill>
                <a:latin typeface="Times New Roman"/>
                <a:cs typeface="B Mitra"/>
              </a:rPr>
              <a:t>دانش استدلالی انتزاعی است که ما از آن برای تبیین پدیده ها ودرک آنها استفاده می کنیم ( ترین،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07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071360" y="857160"/>
            <a:ext cx="3071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 rtl="1">
              <a:lnSpc>
                <a:spcPct val="100000"/>
              </a:lnSpc>
            </a:pPr>
            <a:r>
              <a:rPr b="1" lang="en-GB" sz="3600" spc="-1" strike="noStrike">
                <a:solidFill>
                  <a:schemeClr val="accent1">
                    <a:lumMod val="50000"/>
                  </a:schemeClr>
                </a:solidFill>
                <a:latin typeface="Comic Sans MS"/>
              </a:rPr>
              <a:t>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5"/>
          <p:cNvSpPr/>
          <p:nvPr/>
        </p:nvSpPr>
        <p:spPr>
          <a:xfrm>
            <a:off x="1115640" y="6093360"/>
            <a:ext cx="1367640" cy="35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numCol="1" spcCol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a-IR" sz="1400" spc="-1" strike="noStrike">
                <a:solidFill>
                  <a:srgbClr val="8d8d8d"/>
                </a:solidFill>
                <a:latin typeface="Arial"/>
                <a:cs typeface="B Roya"/>
              </a:rPr>
              <a:t>م.ا.دماوند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Notebook">
  <a:themeElements>
    <a:clrScheme name="Notebook 4">
      <a:dk1>
        <a:srgbClr val="1c1c1c"/>
      </a:dk1>
      <a:lt1>
        <a:srgbClr val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66"/>
      </a:dk2>
      <a:lt2>
        <a:srgbClr val="666699"/>
      </a:lt2>
      <a:accent1>
        <a:srgbClr val="ff5050"/>
      </a:accent1>
      <a:accent2>
        <a:srgbClr val="009999"/>
      </a:accent2>
      <a:accent3>
        <a:srgbClr val="ffffff"/>
      </a:accent3>
      <a:accent4>
        <a:srgbClr val="161616"/>
      </a:accent4>
      <a:accent5>
        <a:srgbClr val="ffb3b3"/>
      </a:accent5>
      <a:accent6>
        <a:srgbClr val="008a8a"/>
      </a:accent6>
      <a:hlink>
        <a:srgbClr val="3366cc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  <Words>1211</Words>
  <Paragraphs>262</Paragraphs>
  <Company>Niayesh Lab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3T20:04:43Z</dcterms:created>
  <dc:creator>Majid</dc:creator>
  <dc:description/>
  <dc:language>en-US</dc:language>
  <cp:lastModifiedBy>RAYAN</cp:lastModifiedBy>
  <dcterms:modified xsi:type="dcterms:W3CDTF">2015-01-20T20:07:07Z</dcterms:modified>
  <cp:revision>17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30</vt:r8>
  </property>
</Properties>
</file>